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0915-1455-4B79-BD47-17268AD4C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0FB-FA9F-42F2-BAC2-7D95F0655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0D9-93AD-454D-BE4D-94507FA9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C48-7A22-4EFD-A350-F2AAF6B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64E-2CF0-440B-8969-7FCFA826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3DD-2251-4913-BAB1-D361E564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1CC-EA2F-4583-A0F1-B965B60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94E-D634-42DD-A288-745019A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2BC-08D9-484E-B371-60E41574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1B4-F2E8-4390-AE76-0615E8C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EF5-AA3C-423A-BE0B-20BA6CE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5E8-4E3F-4CE1-A2DC-53C48D9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8C1-31B7-4C29-A55B-C94E41E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CD1-8EF4-40D9-8831-5179EA33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2806-4C70-46B4-9BA8-DCF907E59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biid/00753731190800243808" TargetMode="External"/><Relationship Id="rId2" Type="http://schemas.openxmlformats.org/officeDocument/2006/relationships/hyperlink" Target="http://www.cofe.ru/read-ka/article.asp?heading=87&amp;article=8769" TargetMode="External"/><Relationship Id="rId3" Type="http://schemas.openxmlformats.org/officeDocument/2006/relationships/hyperlink" Target="http://www.proza.ru/pics/2010/06/30/266.jpg" TargetMode="External"/><Relationship Id="rId4" Type="http://schemas.openxmlformats.org/officeDocument/2006/relationships/hyperlink" Target="http://www.surwiki.ru/wiki/images/9/91/&#1044;&#1086;&#1084;%2C_&#1074;_&#1082;&#1086;&#1090;&#1086;&#1088;&#1086;&#1084;_&#1078;&#1080;&#1083;_&#1077;&#1088;&#1096;&#1086;&#1074;_&#1074;_1862-1869&#1075;&#1075;.jpg" TargetMode="External"/><Relationship Id="rId5" Type="http://schemas.openxmlformats.org/officeDocument/2006/relationships/hyperlink" Target="http://chron.eduhmao.ru/img_1_14_1_1.jpeg" TargetMode="External"/><Relationship Id="rId6" Type="http://schemas.openxmlformats.org/officeDocument/2006/relationships/hyperlink" Target="http://upload.wikimedia.org/wikipedia/commons/4/4b/Bryullov_portrait_of_Zhukovsky.jpg" TargetMode="External"/><Relationship Id="rId7" Type="http://schemas.openxmlformats.org/officeDocument/2006/relationships/hyperlink" Target="http://upload.wikimedia.org/wikipedia/commons/5/56/Kiprensky_Pushkin.jpg" TargetMode="External"/><Relationship Id="rId8" Type="http://schemas.openxmlformats.org/officeDocument/2006/relationships/hyperlink" Target="http://upload.wikimedia.org/wikipedia/commons/8/8d/MendeleevDI_Jaroishenko_1886.jpg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 Павловича</a:t>
            </a: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4 класс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Музей Ершова в г.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8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Тоболь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5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litra.ru/biography/get/biid/00753731190800243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fe.ru/read-ka/article.asp?heading=87&amp;article=8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roza.ru/pics/2010/06/30/2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surwiki.ru/wiki/images/9/91/%D0%94%D0%BE%D0%BC%2C_%D0%B2_%D0%BA%D0%BE%D1%82%D0%BE%D1%80%D0%BE%D0%BC_%D0%B6%D0%B8%D0%BB_%D0%B5%D1%80%D1%88%D0%BE%D0%B2_%D0%B2_1862-1869%D0%B3%D0%B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chron.eduhmao.ru/img_1_14_1_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4/4b/Bryullov_portrait_of_Zhukovs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5/56/Kiprensky_Push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е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8/8d/MendeleevDI_Jaroishenko_1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a/a7/%D0%95%D1%80%D1%88%D0%BE%D0%B2_%D0%BC%D1%83%D0%B7%D0%B5%D0%B909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4/45/%D0%9F%D0%B0%D0%BC%D1%8F%D1%82%D0%BD%D0%B8%D0%BA_%D0%B5%D1%80%D1%88%D0%BE%D0%B2%D1%83_%D0%B2_%D1%82%D0%BE%D0%B1%D0%BE%D0%BB%D1%8C%D1%81%D0%BA%D0%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obolsk.clan.su/_ph/4/2/32007377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exgetti.narod.ru/imgu61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lavochke.ru/upload/iblock/f3b/f3bf08aec57c074dcfd989a99e4d7a5f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Пав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>
            <a:hlinkClick r:id="rId1" action="ppaction://hlinksldjump"/>
          </p:cNvPr>
          <p:cNvSpPr/>
          <p:nvPr/>
        </p:nvSpPr>
        <p:spPr>
          <a:xfrm>
            <a:off x="4859280" y="19162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5 г. – 186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7688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179280" y="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22 февраля 181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Безруково Ишимского уезда Тобольской губернии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мелкого чиновн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132520" cy="3722400"/>
          </a:xfrm>
          <a:prstGeom prst="rect">
            <a:avLst/>
          </a:prstGeom>
          <a:ln w="1260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1830 году окончил Тобольскую гимназ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4591080"/>
          </a:xfrm>
          <a:prstGeom prst="rect">
            <a:avLst/>
          </a:prstGeom>
          <a:ln w="1584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1890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ршов П.П. в 1831-1834 гг.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на философско-юридическом факультете Петербургского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8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университете знакомится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.А. Жуковским и А.С. Пушк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9640" y="2119320"/>
            <a:ext cx="3527640" cy="42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3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го учеником в Тобольской гимназии был Менделеев Д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429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е Ершова П.П. </a:t>
            </a:r>
            <a:br>
              <a:rPr sz="4000"/>
            </a:b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976480" cy="415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710080" cy="36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813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30 августа 1869 г. в Тобольске. Похоронен на тобольском Завальном кладбище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1683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1-08-22T19:14:35Z</dcterms:modified>
  <cp:revision>100</cp:revision>
  <dc:subject/>
  <dc:title>Биография и творчество  Фёдора Ивановича Тютчева  3 класс 1 полугодие УМК «Школа России» </dc:title>
</cp:coreProperties>
</file>